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F1DF-07B9-4A7E-8AC3-1E7192E09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0706-0BA0-4B07-82A5-F735A1F3A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648E-8321-4862-8490-04048B7D6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A340-4EC0-422C-9AFE-887AD5E00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0731-5FF0-41BD-A79B-226FD81EF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748F-F568-458D-AD8E-8E80ED4E4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254F-1AF7-4E4B-AD1F-824F50180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A89E-51C2-40F3-A381-639187656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9F0F-5ABC-4A2F-9CA2-203226A78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B784-B7BA-4AE7-A01A-B1CD41F3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7505-C2E5-42E1-A646-1AC3EFDA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B8B9-C16F-4B6B-834C-9ED862FF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439FB-BAE8-44FA-B880-51B688DAE064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5/23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6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2361960"/>
            <a:ext cx="77202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Business Operations Support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Task Description</a:t>
            </a:r>
            <a:endParaRPr b="1" lang="en-US" sz="4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4572000" cy="13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Josef Baureg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BMG PH RD B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23.05.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9362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Task Description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Planning Process, Support and Tool Definition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197000"/>
            <a:ext cx="830592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Tool definition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Definition and steering of tool modification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Define scenario planning tool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Alignment global for tool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Planning proces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Owner of planning process description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Alignment global proces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Control process implementation and use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Evaluation and reporting support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Definition and steering availability of reporting capabilities of tool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Management of accounts in Planning Tool (create, delete, etc.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Ensure opening and closing of project account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Plausibility check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Training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Tool Hotline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9362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Task Description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Roadmap planning, controlling and reporting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97000"/>
            <a:ext cx="830592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a0e66"/>
                </a:solidFill>
                <a:latin typeface="Minion"/>
              </a:rPr>
              <a:t>Roadmap and scenario planning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a0e66"/>
                </a:solidFill>
                <a:latin typeface="Minion"/>
              </a:rPr>
              <a:t>Check availability of needed input for planning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a0e66"/>
                </a:solidFill>
                <a:latin typeface="Minion"/>
              </a:rPr>
              <a:t>Responsible for planning organisation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a0e66"/>
                </a:solidFill>
                <a:latin typeface="Minion"/>
              </a:rPr>
              <a:t>Realization of planning round (start, stop, tasks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a0e66"/>
                </a:solidFill>
                <a:latin typeface="Minion"/>
              </a:rPr>
              <a:t>Align global planning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a0e66"/>
                </a:solidFill>
                <a:latin typeface="Minion"/>
              </a:rPr>
              <a:t>Controlling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a0e66"/>
                </a:solidFill>
                <a:latin typeface="Minion"/>
              </a:rPr>
              <a:t>Controlling of planning result (Cost, Ressources, Load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a0e66"/>
                </a:solidFill>
                <a:latin typeface="Minion"/>
              </a:rPr>
              <a:t>Controlling of planned budget together with BA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a0e66"/>
                </a:solidFill>
                <a:latin typeface="Minion"/>
              </a:rPr>
              <a:t>Benchmark of project effort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a0e66"/>
                </a:solidFill>
                <a:latin typeface="Minion"/>
              </a:rPr>
              <a:t>Align global controlling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a0e66"/>
                </a:solidFill>
                <a:latin typeface="Minion"/>
              </a:rPr>
              <a:t>Reporting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a0e66"/>
                </a:solidFill>
                <a:latin typeface="Minion"/>
              </a:rPr>
              <a:t>Define and implement reporting structur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a0e66"/>
                </a:solidFill>
                <a:latin typeface="Minion"/>
              </a:rPr>
              <a:t>Ressource and budget reporting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a0e66"/>
                </a:solidFill>
                <a:latin typeface="Minion"/>
              </a:rPr>
              <a:t>Align global reporting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0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9362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Task Description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udget and Portfolio alignmen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197000"/>
            <a:ext cx="830592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a0e66"/>
                </a:solidFill>
                <a:latin typeface="Minion"/>
              </a:rPr>
              <a:t>Budget and portfolio alignmen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Member of Malpha process team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Budget and portfolio alignment with CM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Investigation of roadmap scenario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Feasibility of features, timeline and ressource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Align global activitie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Align global roadmap and portfolio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3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9362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Task Description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Partner managemen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97000"/>
            <a:ext cx="830592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a0e66"/>
                </a:solidFill>
                <a:latin typeface="Minion"/>
              </a:rPr>
              <a:t>RD supplier interface 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a0e66"/>
                </a:solidFill>
                <a:latin typeface="Minion"/>
              </a:rPr>
              <a:t>Contract Management Support of: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</a:rPr>
              <a:t>Conceptual contract setup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</a:rPr>
              <a:t>Contract preparation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</a:rPr>
              <a:t>Contract negotioations and management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</a:rPr>
              <a:t>contract implementation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</a:rPr>
              <a:t>contract Q&amp;A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a0e66"/>
                </a:solidFill>
                <a:latin typeface="Minion"/>
              </a:rPr>
              <a:t>Cross functional activities/across all platforms. Support of: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</a:rPr>
              <a:t>strategy and business model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</a:rPr>
              <a:t>make or buy decision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</a:rPr>
              <a:t>partner selection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</a:rPr>
              <a:t>project tracking/steering board/escalation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</a:rPr>
              <a:t>partner rating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</a:rPr>
              <a:t>feedback loop and improvement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a0e66"/>
                </a:solidFill>
                <a:latin typeface="Minion"/>
              </a:rPr>
              <a:t>BOS USPs: not limited to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</a:rPr>
              <a:t>one project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</a:rPr>
              <a:t>one platform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</a:rPr>
              <a:t>one supplier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</a:rPr>
              <a:t>-&gt;</a:t>
            </a:r>
            <a:r>
              <a:rPr b="0" lang="zh-TW" sz="1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zh-TW" sz="1400" spc="-1" strike="noStrike">
                <a:solidFill>
                  <a:srgbClr val="3a0e66"/>
                </a:solidFill>
                <a:latin typeface="Minion"/>
              </a:rPr>
              <a:t>Business focu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6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Roland Puscher</dc:creator>
  <dc:description/>
  <dc:language>en-US</dc:language>
  <cp:lastModifiedBy> </cp:lastModifiedBy>
  <dcterms:modified xsi:type="dcterms:W3CDTF">2006-05-24T08:57:43Z</dcterms:modified>
  <cp:revision>139</cp:revision>
  <dc:subject/>
  <dc:title>PowerPoint 簡報</dc:title>
</cp:coreProperties>
</file>